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C42B-DBD9-4185-AE00-A62A606BC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5CF5-206B-4560-B400-F12CD8E4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3AA1-1B9C-4466-A1C7-95704C0B8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0B08-6983-45F5-81AD-75D9DF9A0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D14F-BC30-49CF-B275-B128547F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B550-1426-4AD1-B59E-D49E599F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F084-1244-47AB-B684-A40D951D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3A0A-F98E-4718-97BC-A76720E7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43D4-CAA8-4749-9AAC-0500C608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8239-F358-411B-ACD7-9F1F3DAD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DAD3-0170-4276-94DE-964BAC5A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28D8-B4F6-443B-9409-C5855525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3A69-B60F-4028-A875-4BD681A4DA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Bryce Burdit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eek city-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t3.gstatic.com/images?q=tbn:ANd9GcQCjw9J7Gvdd5-53Q7nhG6qAA8xvCvRWP8vN6hel0rukfjUReB4Tg"/>
          <p:cNvPicPr/>
          <p:nvPr/>
        </p:nvPicPr>
        <p:blipFill>
          <a:blip r:embed="rId1"/>
          <a:stretch/>
        </p:blipFill>
        <p:spPr>
          <a:xfrm>
            <a:off x="1371600" y="3048120"/>
            <a:ext cx="586728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tudy  of wisdom and he right to l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t3.gstatic.com/images?q=tbn:ANd9GcQL0wxhuw8L0MrqMHjGpGParG1S6U8DsUaJ9gjOqNniVg8ZsmTbxw"/>
          <p:cNvPicPr/>
          <p:nvPr/>
        </p:nvPicPr>
        <p:blipFill>
          <a:blip r:embed="rId1"/>
          <a:stretch/>
        </p:blipFill>
        <p:spPr>
          <a:xfrm>
            <a:off x="380880" y="2743200"/>
            <a:ext cx="80010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rea of land nearly surrounded by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http://t2.gstatic.com/images?q=tbn:ANd9GcR_b0YuBcSuJxtS5mjP57H1115sDevg-vfZB-gSW3M66lT_0pc1"/>
          <p:cNvPicPr/>
          <p:nvPr/>
        </p:nvPicPr>
        <p:blipFill>
          <a:blip r:embed="rId1"/>
          <a:stretch/>
        </p:blipFill>
        <p:spPr>
          <a:xfrm>
            <a:off x="1143000" y="2819520"/>
            <a:ext cx="7238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ar between Sparta and Athe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://t0.gstatic.com/images?q=tbn:ANd9GcQiIHf-aWmOdggel0HzX0uq450mujGGsqwGWFtcn3qkB97WfghF"/>
          <p:cNvPicPr/>
          <p:nvPr/>
        </p:nvPicPr>
        <p:blipFill>
          <a:blip r:embed="rId1"/>
          <a:stretch/>
        </p:blipFill>
        <p:spPr>
          <a:xfrm>
            <a:off x="990720" y="2743200"/>
            <a:ext cx="6629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kind o government that is ran by a small group of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t0.gstatic.com/images?q=tbn:ANd9GcQImSMHIdr0NRtXB-veUii2ikr-vsGBF50rxuDZq8P0V5ttDypS"/>
          <p:cNvPicPr/>
          <p:nvPr/>
        </p:nvPicPr>
        <p:blipFill>
          <a:blip r:embed="rId1"/>
          <a:stretch/>
        </p:blipFill>
        <p:spPr>
          <a:xfrm>
            <a:off x="1066680" y="2971800"/>
            <a:ext cx="6400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heltered place or coast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t1.gstatic.com/images?q=tbn:ANd9GcQncAZV_coDKfQB8YPRhi3SDDxnMLvEjjUKk4mMo1Q8az5J5qIq"/>
          <p:cNvPicPr/>
          <p:nvPr/>
        </p:nvPicPr>
        <p:blipFill>
          <a:blip r:embed="rId1"/>
          <a:stretch/>
        </p:blipFill>
        <p:spPr>
          <a:xfrm>
            <a:off x="1981080" y="2895480"/>
            <a:ext cx="47246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bjb34.jpg"/>
          <p:cNvPicPr/>
          <p:nvPr/>
        </p:nvPicPr>
        <p:blipFill>
          <a:blip r:embed="rId1"/>
          <a:stretch/>
        </p:blipFill>
        <p:spPr>
          <a:xfrm>
            <a:off x="457200" y="2362320"/>
            <a:ext cx="80773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Content Placeholder 4" descr="imagesbjb9.jpg"/>
          <p:cNvPicPr/>
          <p:nvPr/>
        </p:nvPicPr>
        <p:blipFill>
          <a:blip r:embed="rId1"/>
          <a:stretch/>
        </p:blipFill>
        <p:spPr>
          <a:xfrm>
            <a:off x="380880" y="2438280"/>
            <a:ext cx="815364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wmaking place where people voted on issues that hel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demosthenes_assembly_athensbjb.jpg"/>
          <p:cNvPicPr/>
          <p:nvPr/>
        </p:nvPicPr>
        <p:blipFill>
          <a:blip r:embed="rId1"/>
          <a:stretch/>
        </p:blipFill>
        <p:spPr>
          <a:xfrm>
            <a:off x="304920" y="2971800"/>
            <a:ext cx="845820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erson who has a certain rig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archive.worldhistoria.com/uploads/30663/Attila_.GIF"/>
          <p:cNvPicPr/>
          <p:nvPr/>
        </p:nvPicPr>
        <p:blipFill>
          <a:blip r:embed="rId1"/>
          <a:stretch/>
        </p:blipFill>
        <p:spPr>
          <a:xfrm>
            <a:off x="457200" y="2438280"/>
            <a:ext cx="7924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oup of people that came to settle from a different cou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t1.gstatic.com/images?q=tbn:ANd9GcTHnrvcskzN8c2rCM_BX4NrB_20R0_e-Lh1rN_TZ23Z2I3hXVWQzg"/>
          <p:cNvPicPr/>
          <p:nvPr/>
        </p:nvPicPr>
        <p:blipFill>
          <a:blip r:embed="rId1"/>
          <a:stretch/>
        </p:blipFill>
        <p:spPr>
          <a:xfrm>
            <a:off x="838080" y="3048120"/>
            <a:ext cx="746784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orm of gov. that the people dec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1.jpg"/>
          <p:cNvPicPr/>
          <p:nvPr/>
        </p:nvPicPr>
        <p:blipFill>
          <a:blip r:embed="rId1"/>
          <a:stretch/>
        </p:blipFill>
        <p:spPr>
          <a:xfrm>
            <a:off x="304920" y="2895480"/>
            <a:ext cx="8305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hear and decide whose  guil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://t2.gstatic.com/images?q=tbn:ANd9GcQ8v0gw8SL14PSaqXuoaSc0TrpWVIGFIPWIqGcVcA_nppQjg1WDtg"/>
          <p:cNvPicPr/>
          <p:nvPr/>
        </p:nvPicPr>
        <p:blipFill>
          <a:blip r:embed="rId1"/>
          <a:stretch/>
        </p:blipFill>
        <p:spPr>
          <a:xfrm>
            <a:off x="304920" y="2743200"/>
            <a:ext cx="7924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v headed by one ru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t2.gstatic.com/images?q=tbn:ANd9GcSsq4HhS0vVs0CIqb0lkC_Y4C6LJebttAnWVh6q79NA1L1ewvIp"/>
          <p:cNvPicPr/>
          <p:nvPr/>
        </p:nvPicPr>
        <p:blipFill>
          <a:blip r:embed="rId1"/>
          <a:stretch/>
        </p:blipFill>
        <p:spPr>
          <a:xfrm>
            <a:off x="1600200" y="3429000"/>
            <a:ext cx="579132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2T15:58:42Z</dcterms:modified>
  <cp:revision>91</cp:revision>
  <dc:subject/>
  <dc:title>Ancient Greece</dc:title>
</cp:coreProperties>
</file>